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910-83BA-4112-9825-116ED42A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8EE-132E-403B-AE6D-5FE4789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7D3-1CFE-4B7C-A533-3BA2CBF1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E77-F5D8-43D5-B4C4-7FEFE87C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446-D55A-4306-89A6-91DC1504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D05E-8BE2-4816-8357-3D922AF4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A19D-7A29-4057-95CD-22FC7E1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61A-8552-4274-B041-5C09FE5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041-72BF-46A4-ABFA-537F5E7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DF31-C8B1-4E95-831B-1D1BB00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CEF6-143E-45AD-9F0D-763E8C0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0C5-3707-4357-91B1-C687384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643-6FA9-4D74-B4A7-FCE18DD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909-5FC7-4E0A-8E10-5E3C124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402-CB47-4F91-9E4C-C1831F29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2F8-058E-42B4-A445-7DB905EE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699-B2F7-41D8-AD7E-8A98ED7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4BF-1FCE-4EDE-B361-17F1AA67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FD4-9542-4B10-87C3-5D20708A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F03-9DB9-4AE6-A379-1D69F88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D6C-3B63-4F2E-AB6E-B78AF81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C40-86FB-4D2A-A0DF-B240B7B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9C8-1C5F-44B0-877A-D437EBE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440-46D3-490B-9371-1C7DDD4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F5E-EB6F-48B4-B48F-6E51589CCA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4B21-37C1-47BF-82D7-FB0994442E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995640" y="5949720"/>
            <a:ext cx="4896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готовила: Студентка 231 группы Гусева Людм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90720" y="1484280"/>
            <a:ext cx="71625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чины мутации ДНК.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вы знаете о мутации ДНК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195640" y="1700280"/>
            <a:ext cx="5040360" cy="3313080"/>
            <a:chOff x="2195640" y="1700280"/>
            <a:chExt cx="5040360" cy="331308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2195640" y="1700280"/>
              <a:ext cx="5040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 txBox="1"/>
            <p:nvPr/>
          </p:nvSpPr>
          <p:spPr>
            <a:xfrm>
              <a:off x="2195640" y="1700280"/>
              <a:ext cx="5040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нятие «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мутаци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Мутация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это стойкое (то есть такое, которое может быть унаследовано потомками данной клетки или организма) изменение генотипа, происходящие под влиянием внешней или внутренн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зовите ее классификацию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ен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ромосом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еном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источники мутац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едные привы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рязнение окружающей ср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ру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41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Мутации ДНК делятся:</a:t>
            </a:r>
            <a:br>
              <a:rPr sz="1600"/>
            </a:b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Tahoma"/>
              </a:rPr>
              <a:t>Спонтанные мутации</a:t>
            </a: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озникают самопроизвольно на протяжении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сей жизни организма в нормальных для него условиях окружающей среды.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Tahoma"/>
              </a:rPr>
              <a:t>Индуцированными мутациями</a:t>
            </a: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называют наследуемые изменения генома, возникающие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результате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тех или иных мутагенных воздействий в искусственных (экспериментальных) условиях или при неблагоприятных воздействиях окружающей среды. 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50403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Успехов изучение материала!!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184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0:16Z</dcterms:created>
  <dc:creator>www.PHILka.RU</dc:creator>
  <dc:description/>
  <dc:language>en-US</dc:language>
  <cp:lastModifiedBy>www.PHILka.RU</cp:lastModifiedBy>
  <dcterms:modified xsi:type="dcterms:W3CDTF">2009-12-28T13:54:00Z</dcterms:modified>
  <cp:revision>11</cp:revision>
  <dc:subject/>
  <dc:title>Слайд 1</dc:title>
</cp:coreProperties>
</file>